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917-5009-41B3-8DEC-C07A8056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677-E3F3-4BCB-971F-C12E53D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18F-43C8-45EB-A030-57A59428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769-ADD2-4CDA-964D-E1EC794F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EB91-F894-4715-8BAF-DF155FEF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C79-EE08-407E-BD36-D6283E61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967-E77C-4937-B72E-520FC66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9290-38CC-4EDD-A878-7402AE6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50A5-0960-4E6E-A911-7892084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8C8A-EDE8-4FE3-BA74-CD8DD347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B7ED-5A61-4BC0-AF97-392B1EF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687-5545-49ED-8B91-DC3B391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5F7A-4B99-4D92-B25E-BD8B2F9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5B3-FD3F-4C29-B09C-E644B88B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11B-0EFF-46B8-8017-9622016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E12E-DC85-4339-AD77-CAB2FF42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5CB3-6649-4D57-93E6-F90A4DBD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214-6322-421C-8CE3-C9B8631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A18-8243-4F6F-89DC-72C769C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66F-E2E3-4D19-8EB4-2B58021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60C-097A-4EE0-9E3D-8439E878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4CA-9C1D-4524-BB57-51D96A2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187-2A60-498A-8DED-6E6DE1F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066-AA0A-4802-A03B-6FC60F75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33F-3343-49A4-AA7F-B8FDE63B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pic>
          <p:nvPicPr>
            <p:cNvPr id="54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1F0-2877-4241-BA64-C42528BF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mazon.co.jp/gp/product/images/0691121788/sr=1-1/qid=1266217929/ref=dp_image_0?ie=UTF8&amp;n=52033011&amp;s=english-books&amp;qid=1266217929&amp;sr=1-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テキストの解説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2276280"/>
            <a:ext cx="716904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Ｈ２５年５月２２日（水）　中央水研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「水産資源のデータ解析入門」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Ｔｅｒｒａｐｕｂ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１　水産資源解析学の歴史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ロトカ・ヴォルテラ・・・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1920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年代、生態学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戦前・・・無視してよい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1950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年代・・・黄金時代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1980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年代・・・パソコンの普及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系群？・・・種と同様、便宜的な定義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　　　　　個体群と同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２　連立方程式の解法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数値計算の基礎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卒論（実用性は低い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良条件と悪条件・・・対角成分が重要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　　（ｉｌｌ　ｃｏｎｄｉｔｉｏｎ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３　混合正規分布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統計学の問題がすべて含まれている？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島谷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1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非線型パラメータ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マルカール法、Ｘ－Ｙプロッター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ハッセルブラッド法、ＥＭアルゴリズム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真子・松宮の方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統計学や数値計算の専門家（最近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　混合正規分布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714240" y="1785960"/>
                <a:ext cx="41436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500040" y="3714840"/>
                <a:ext cx="6802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857920" y="1785960"/>
                <a:ext cx="20350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エクセルで計算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相澤・滝口（１９９９）のバグ情報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Ｂ１３４セルに　＝ＳＵＭ（Ｂ８３：Ｂ１３３）　　　を入力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Ｆ列まで右にコピー（Ｂ→Ｆ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五利江（２００２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計算例（キダイのデータ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140" name="Chart 3" descr=""/>
          <p:cNvPicPr/>
          <p:nvPr/>
        </p:nvPicPr>
        <p:blipFill>
          <a:blip r:embed="rId1"/>
          <a:stretch/>
        </p:blipFill>
        <p:spPr>
          <a:xfrm>
            <a:off x="566640" y="1920960"/>
            <a:ext cx="68709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４　成長式あれこれ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周期関数による拡張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リチャーズ式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再生産式の一般式（シュヌート式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パラメータ推定（非線型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主成分分析・・・粕谷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1998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の誤り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Ｔｈｉｅｍｅ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03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、瀬野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07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の誤り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ベルタランフィーの成長式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03280" y="1700280"/>
            <a:ext cx="590544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Impact"/>
              </a:rPr>
              <a:t>増加量＝同化量－異化量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Impact"/>
              </a:rPr>
              <a:t>微分方程式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Impact"/>
              </a:rPr>
              <a:t>ベクトル場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547640" y="4365720"/>
                <a:ext cx="45370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αw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β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ベルタランフィーのベクトル場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148" name="Chart 3" descr=""/>
          <p:cNvPicPr/>
          <p:nvPr/>
        </p:nvPicPr>
        <p:blipFill>
          <a:blip r:embed="rId1"/>
          <a:stretch/>
        </p:blipFill>
        <p:spPr>
          <a:xfrm>
            <a:off x="1133640" y="1639800"/>
            <a:ext cx="58035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ベルタランフィーの成長式　　　　　　　　　　　　　　　　</a:t>
            </a:r>
            <a:br>
              <a:rPr sz="4400"/>
            </a:b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　　　（標準型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コンテンツ プレースホルダ 3"/>
              <p:cNvSpPr txBox="1"/>
              <p:nvPr/>
            </p:nvSpPr>
            <p:spPr>
              <a:xfrm>
                <a:off x="3495600" y="18162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571680" y="2143080"/>
                <a:ext cx="7918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1571760" y="3429000"/>
                <a:ext cx="192852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428760" y="4500720"/>
                <a:ext cx="6737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水産資源のデータ解析入門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３２００円＋税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著者割り・・・１冊２６８８円（税込み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送料４２０円（ただし２冊以上無料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恒星社厚生閣の小浴（こさか）さんに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「赤嶺先生メール」という件名で注文。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kosaka@kouseisha.com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※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「基礎」も同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ロジスティック式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1928880" y="1857240"/>
                <a:ext cx="471492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000160" y="3500280"/>
                <a:ext cx="14288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4514760" y="3321000"/>
                <a:ext cx="112896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571680" y="4071960"/>
                <a:ext cx="6305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ゴンペルツの成長式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214280" y="2000160"/>
                <a:ext cx="664380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4500720" y="3214800"/>
                <a:ext cx="1199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285840" y="3929040"/>
                <a:ext cx="7010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リチャーズの成長式（１９５９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コンテンツ プレースホルダ 3"/>
              <p:cNvSpPr txBox="1"/>
              <p:nvPr/>
            </p:nvSpPr>
            <p:spPr>
              <a:xfrm>
                <a:off x="3495600" y="18162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1214280" y="1357200"/>
                <a:ext cx="4857840" cy="27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∞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214200" y="4214880"/>
                <a:ext cx="678672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	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リチャーズの成長式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179" name="グラフ 2" descr=""/>
          <p:cNvPicPr/>
          <p:nvPr/>
        </p:nvPicPr>
        <p:blipFill>
          <a:blip r:embed="rId1"/>
          <a:stretch/>
        </p:blipFill>
        <p:spPr>
          <a:xfrm>
            <a:off x="920880" y="1706400"/>
            <a:ext cx="65833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指数関数の定義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コンテンツ プレースホルダ 3"/>
              <p:cNvSpPr txBox="1"/>
              <p:nvPr/>
            </p:nvSpPr>
            <p:spPr>
              <a:xfrm>
                <a:off x="3495600" y="18162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214280" y="1428840"/>
                <a:ext cx="49928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214280" y="3500280"/>
                <a:ext cx="61041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1285920" y="5143680"/>
                <a:ext cx="1714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3786120" y="5643720"/>
                <a:ext cx="17146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指数関数の定義（２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コンテンツ プレースホルダ 3"/>
              <p:cNvSpPr txBox="1"/>
              <p:nvPr/>
            </p:nvSpPr>
            <p:spPr>
              <a:xfrm>
                <a:off x="3495600" y="18162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214280" y="1643040"/>
                <a:ext cx="5596200" cy="20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116000" y="4076640"/>
                <a:ext cx="58482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２つの曲線の検定（Ｆ検定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199" name="Chart 6" descr=""/>
          <p:cNvPicPr/>
          <p:nvPr/>
        </p:nvPicPr>
        <p:blipFill>
          <a:blip r:embed="rId1"/>
          <a:stretch/>
        </p:blipFill>
        <p:spPr>
          <a:xfrm>
            <a:off x="706320" y="1639800"/>
            <a:ext cx="66582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周期関数による拡張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857160" y="2000160"/>
                <a:ext cx="7175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785880" y="3500280"/>
                <a:ext cx="7215120" cy="16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大分県のハマグリの成長曲線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07" name="Chart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8393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再生産式（１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1928880" y="1785960"/>
                <a:ext cx="377496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2000160" y="4643280"/>
                <a:ext cx="44895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　テキストの修正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「ｎ」の事後分布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.76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負の二項分布（パスカル分布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根号の規約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.14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１０行目の数式は正しい。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１２行目の数式は誤り。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「資料」の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.2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を参照のこと。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再生産式（シュヌート式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71760" y="2286000"/>
                <a:ext cx="561492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β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再生産式の図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22" name="グラフ 2" descr=""/>
          <p:cNvPicPr/>
          <p:nvPr/>
        </p:nvPicPr>
        <p:blipFill>
          <a:blip r:embed="rId1"/>
          <a:stretch/>
        </p:blipFill>
        <p:spPr>
          <a:xfrm>
            <a:off x="633240" y="1779480"/>
            <a:ext cx="6731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アロメトリー式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コンテンツ プレースホルダ 3"/>
              <p:cNvSpPr txBox="1"/>
              <p:nvPr/>
            </p:nvSpPr>
            <p:spPr>
              <a:xfrm>
                <a:off x="4191120" y="312732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928880" y="1428840"/>
                <a:ext cx="35798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539640" y="2924280"/>
                <a:ext cx="70930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1692360" y="4076640"/>
                <a:ext cx="3876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アロメトリー式の図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32" name="グラフ 3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65833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５　個体数推定は難しい！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枠どり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ベイズ統計（負の２項分布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ピーターセン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２項分布と超幾何分布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デルーリー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枠どり法とピーターセン法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枠どり法、コドラート法、部分観察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２項分布の　ｎ　の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ピーターセン法（ペテルセン法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２項分布の　ｐ　の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デルーリー法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２項分布の　ｎ　と　ｐ　の同時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（うまくいかない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枠どり法の区間推定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38" name="グラフ 4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63705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ピーターセン法の区間推定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40" name="グラフ 3" descr=""/>
          <p:cNvPicPr/>
          <p:nvPr/>
        </p:nvPicPr>
        <p:blipFill>
          <a:blip r:embed="rId1"/>
          <a:stretch/>
        </p:blipFill>
        <p:spPr>
          <a:xfrm>
            <a:off x="633240" y="1639800"/>
            <a:ext cx="61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６　ベイズ統計と生態学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ポアソン分布の区間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Ｃｌａｒｋ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07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、松田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08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の誤り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ィッシャー情報量は不適当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不連続区間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尤度比検定とベイズ統計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事前分布は「ＰＭＰ」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</a:t>
            </a: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ark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</a:t>
            </a: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J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</a:t>
            </a: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S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（２００７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44" name="Picture 2" descr="Models for Ecological Data: An Introdu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14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（１）回帰直線の推定と検定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テキストの第４章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「基礎」の例題５．１・・・生残率の推定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エクセルによる実演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７　落ち穂拾い（最重要？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ＶＰＡ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最大原理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マッケンドリック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死亡係数Ｍ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ロジスティック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再生産式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個体群行列モデル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行列モデル（１）・・・レフコビッチ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"/>
              <p:cNvSpPr txBox="1"/>
              <p:nvPr/>
            </p:nvSpPr>
            <p:spPr>
              <a:xfrm>
                <a:off x="571680" y="1571760"/>
                <a:ext cx="3357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3143160" y="2786040"/>
                <a:ext cx="46436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1428840" y="4214880"/>
                <a:ext cx="52084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行列モデル（２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571680" y="2000160"/>
                <a:ext cx="39290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4929120" y="1928880"/>
                <a:ext cx="3679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2286000" y="4357800"/>
                <a:ext cx="36432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行列モデル（３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"/>
              <p:cNvSpPr txBox="1"/>
              <p:nvPr/>
            </p:nvSpPr>
            <p:spPr>
              <a:xfrm>
                <a:off x="142920" y="1643040"/>
                <a:ext cx="8423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2357280" y="3929040"/>
                <a:ext cx="2652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1643040" y="5000760"/>
                <a:ext cx="4167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≠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196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１変数のモデ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"/>
              <p:cNvSpPr txBox="1"/>
              <p:nvPr/>
            </p:nvSpPr>
            <p:spPr>
              <a:xfrm>
                <a:off x="826920" y="2421000"/>
                <a:ext cx="56343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826920" y="4005360"/>
                <a:ext cx="74916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算術平均　と　幾何平均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1916280"/>
                <a:ext cx="46944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2268360" y="4365720"/>
                <a:ext cx="4656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最大固有値の分布（横軸はｎ）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287" name="グラフ 4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43112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第８章以降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（数理）統計学の基礎的な演習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生物系の人は苦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どうして「ガンマ関数」が出てくるのか？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ｎ次元の球の表面積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（「資料」参照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（２）成長式の推定と検定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テキストの第４章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「基礎」の例題２．２、例題２．３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エクセルによる実演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（３）体長組成の年齢分解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テキストの第３章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「基礎」の例題１．１、例題１．２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エクセルによる実演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（４）区間推定の考え方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基本はＨＤＲ（最高密度領域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従来は「信頼区間」・・・頻度論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ベイズでは「確率区間」と同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事前分布は「ＰＭＰ」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bability Matching Prio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テキストの第５章（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.70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）と第６章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　　　　　　ＨＤＲの説明図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pic>
        <p:nvPicPr>
          <p:cNvPr id="119" name="Chart 3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66564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（５）統計学やモデルの誤用例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（数理）生態学の教科書に多し！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テキスト内および「資料」で紹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55:34Z</dcterms:created>
  <dc:creator>赤嶺達郎</dc:creator>
  <dc:description/>
  <dc:language>en-US</dc:language>
  <cp:lastModifiedBy>赤嶺達郎</cp:lastModifiedBy>
  <dcterms:modified xsi:type="dcterms:W3CDTF">2013-05-10T05:12:00Z</dcterms:modified>
  <cp:revision>183</cp:revision>
  <dc:subject/>
  <dc:title>資源管理研修会（初級）</dc:title>
</cp:coreProperties>
</file>